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372E-5F38-4FE3-B3F0-30A60BF8AD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EDAC-F23C-4DAE-AA61-DEE8A300F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83DF-5F09-4C51-B52D-E52CEE3E93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48FD-AD27-4A32-9AFB-9F66B54499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ABA8D-E921-4F0E-B87C-CD82853C5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EE3B-DA6E-44DD-B2C8-03BFBEA223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EE95-5C2D-4A05-B7D2-9373ADC347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066-D236-47B6-8333-D3EB1856D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D467-55F4-4F62-82C0-2709D754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FE34-43C0-4305-8ED5-4F4BADF7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D675-B8B8-4AB9-86C7-EE772809E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0A0-2441-4E74-9B62-5737FE2A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2C3-B65D-40BB-AD89-C1B4C523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91F7-90FE-488F-BB51-B57C3439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0B87-DB6A-47C2-B4DC-7F1B4E41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BBA-941B-4FD7-89F2-FFBE24FD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F96-C5BE-41D7-92B6-2F5163DA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F513-75F3-4ECF-8BFC-4C211D07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5D5B-557E-4D11-B5DB-CF3694B1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FE711-D10C-424D-A10E-7C2993FECF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lyvision.com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meducation.com/files/media/ET%20TV%20files/How%20to%20write/SWF/How%20to%20write.htm" TargetMode="External"/><Relationship Id="rId2" Type="http://schemas.openxmlformats.org/officeDocument/2006/relationships/hyperlink" Target="http://www.rmeducation.com/files/media/ET%20TV%20files/How%20to%20use%20MMB/SWF/How%20to%20use%20the%20MMB.htm" TargetMode="External"/><Relationship Id="rId3" Type="http://schemas.openxmlformats.org/officeDocument/2006/relationships/hyperlink" Target="http://www.rmeducation.com/files/media/ET%20TV%20files/How%20to%20use%20glassmode/SWF/How%20to%20use%20glass%20mode.htm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teractive Whiteboard Setu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&amp; Integration into Less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cranton H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September 25, 200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PolyVision Corporation Homep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228600"/>
            <a:ext cx="4191120" cy="762120"/>
          </a:xfrm>
          <a:prstGeom prst="rect">
            <a:avLst/>
          </a:prstGeom>
          <a:ln w="0">
            <a:noFill/>
          </a:ln>
        </p:spPr>
      </p:pic>
      <p:sp>
        <p:nvSpPr>
          <p:cNvPr id="51" name="Oval 4"/>
          <p:cNvSpPr/>
          <p:nvPr/>
        </p:nvSpPr>
        <p:spPr>
          <a:xfrm>
            <a:off x="8381880" y="1066680"/>
            <a:ext cx="15264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val 5"/>
          <p:cNvSpPr/>
          <p:nvPr/>
        </p:nvSpPr>
        <p:spPr>
          <a:xfrm>
            <a:off x="8229600" y="129528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Oval 6"/>
          <p:cNvSpPr/>
          <p:nvPr/>
        </p:nvSpPr>
        <p:spPr>
          <a:xfrm>
            <a:off x="7924680" y="1523880"/>
            <a:ext cx="304920" cy="30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Rectangle 7" descr=""/>
          <p:cNvPicPr/>
          <p:nvPr/>
        </p:nvPicPr>
        <p:blipFill>
          <a:blip r:embed="rId3"/>
          <a:stretch/>
        </p:blipFill>
        <p:spPr>
          <a:xfrm>
            <a:off x="4363920" y="927000"/>
            <a:ext cx="3822840" cy="1146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easiteach_sh1lrgimg.png"/>
          <p:cNvPicPr/>
          <p:nvPr/>
        </p:nvPicPr>
        <p:blipFill>
          <a:blip r:embed="rId4"/>
          <a:stretch/>
        </p:blipFill>
        <p:spPr>
          <a:xfrm>
            <a:off x="390600" y="1143000"/>
            <a:ext cx="3800520" cy="790560"/>
          </a:xfrm>
          <a:prstGeom prst="rect">
            <a:avLst/>
          </a:prstGeom>
          <a:ln w="0">
            <a:noFill/>
          </a:ln>
        </p:spPr>
      </p:pic>
      <p:sp>
        <p:nvSpPr>
          <p:cNvPr id="56" name="Straight Connector 10"/>
          <p:cNvSpPr/>
          <p:nvPr/>
        </p:nvSpPr>
        <p:spPr>
          <a:xfrm>
            <a:off x="533520" y="2057400"/>
            <a:ext cx="8001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6840" y="2285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ition Board &amp; Projector in desired loca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where they will not be bump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ug the cord into an open USB Port on your lap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 the Webster Software from your deskt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it for the status light to turn green on the boar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n press the Projection button on the Whiteboa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.   Simply press the numbers on the whiteboard t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ibrate it and your students are ready to learn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Title 3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59" name="Oval 4"/>
          <p:cNvSpPr/>
          <p:nvPr/>
        </p:nvSpPr>
        <p:spPr>
          <a:xfrm>
            <a:off x="6248520" y="914400"/>
            <a:ext cx="304560" cy="30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5"/>
          <p:cNvSpPr/>
          <p:nvPr/>
        </p:nvSpPr>
        <p:spPr>
          <a:xfrm>
            <a:off x="6553080" y="6858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Oval 6"/>
          <p:cNvSpPr/>
          <p:nvPr/>
        </p:nvSpPr>
        <p:spPr>
          <a:xfrm>
            <a:off x="6705720" y="457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Rectangle 7" descr=""/>
          <p:cNvPicPr/>
          <p:nvPr/>
        </p:nvPicPr>
        <p:blipFill>
          <a:blip r:embed="rId2"/>
          <a:stretch/>
        </p:blipFill>
        <p:spPr>
          <a:xfrm>
            <a:off x="49320" y="1238400"/>
            <a:ext cx="8997840" cy="968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Title 3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64" name="Oval 4"/>
          <p:cNvSpPr/>
          <p:nvPr/>
        </p:nvSpPr>
        <p:spPr>
          <a:xfrm>
            <a:off x="6248520" y="914400"/>
            <a:ext cx="304560" cy="304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5"/>
          <p:cNvSpPr/>
          <p:nvPr/>
        </p:nvSpPr>
        <p:spPr>
          <a:xfrm>
            <a:off x="6553080" y="685800"/>
            <a:ext cx="228600" cy="2286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6"/>
          <p:cNvSpPr/>
          <p:nvPr/>
        </p:nvSpPr>
        <p:spPr>
          <a:xfrm>
            <a:off x="6705720" y="457200"/>
            <a:ext cx="15228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9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ember, the Webster Software must always be running f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Board to operat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1905120" y="2184480"/>
            <a:ext cx="51814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2133720" y="76320"/>
            <a:ext cx="5419440" cy="201924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52280" y="205740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napshot: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ture a snapshot from the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lyvision product. The projected computer screen and your writing are all included wh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2.    Screen Snapsho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pture only the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jected computer screen as a snapsho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Esc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erforms the equivalent to the “ESC” keystroke in the active applic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4.   Re-align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-align the projected im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Keyboard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how and hide the on-scree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bo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ight Click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or a righ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use click, tap this button, then tap the PolyVision produc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evea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Reveal the projected screen o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e at a time by dragging the “window shade” dow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8"/>
          <p:cNvSpPr/>
          <p:nvPr/>
        </p:nvSpPr>
        <p:spPr>
          <a:xfrm>
            <a:off x="4648320" y="2057400"/>
            <a:ext cx="4343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8.   Spotligh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otlight a portion of the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reen with a circle of ligh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0000"/>
              </a:buClr>
              <a:buFont typeface="Calibri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election Tool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ove the curso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of adding writing to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splay. Click to stop projection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-up and return to pointing th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us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0.  Pen Colo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 up the projected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1.  Highlighter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ighlight important item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2.  Eraser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rase projection mark-up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3.  Pen Width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nge pen width for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rk-up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14.  Print: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nt the current image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ing the projected 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reen, on the default printer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nected to the computer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easiteach_sh1lrgimg.png"/>
          <p:cNvPicPr/>
          <p:nvPr/>
        </p:nvPicPr>
        <p:blipFill>
          <a:blip r:embed="rId1"/>
          <a:stretch/>
        </p:blipFill>
        <p:spPr>
          <a:xfrm>
            <a:off x="2133720" y="304920"/>
            <a:ext cx="480060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Rectangle 4" descr=""/>
          <p:cNvPicPr/>
          <p:nvPr/>
        </p:nvPicPr>
        <p:blipFill>
          <a:blip r:embed="rId2"/>
          <a:stretch/>
        </p:blipFill>
        <p:spPr>
          <a:xfrm>
            <a:off x="-585720" y="804960"/>
            <a:ext cx="4859280" cy="30906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3581280" y="18288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Very Interactive Version of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werPoint but with more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ersatility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838080" y="3352680"/>
            <a:ext cx="8077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RM Easiteach is cross-curricula software that can be used across a wide range of grade levels. Subject-focused toolbars for Math, English Language Arts, Science and Geography provide teachers will all of the resources they need to create compelling lessons and stimulating activities. A range of ready-made content packs are also available, with high-quality lessons developed by subject specialists in Math, Language Arts, Science, as well as a fun Games pac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4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45" dur="3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ow to Write on My WhiteBo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ow to use the Multimedia Ban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ow to use Glass M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use Voting &amp; Pol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ing the Math Toolb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to Animate with Easite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For further videos, go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http://www.rmeducation.com/resou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easiteach_sh1lrgimg.png"/>
          <p:cNvPicPr/>
          <p:nvPr/>
        </p:nvPicPr>
        <p:blipFill>
          <a:blip r:embed="rId4"/>
          <a:stretch/>
        </p:blipFill>
        <p:spPr>
          <a:xfrm>
            <a:off x="2133720" y="304920"/>
            <a:ext cx="4800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01:25:02Z</dcterms:created>
  <dc:creator>Voytsnake</dc:creator>
  <dc:description/>
  <dc:language>en-US</dc:language>
  <cp:lastModifiedBy>Voytsnake</cp:lastModifiedBy>
  <dcterms:modified xsi:type="dcterms:W3CDTF">2008-01-08T13:51:31Z</dcterms:modified>
  <cp:revision>12</cp:revision>
  <dc:subject/>
  <dc:title>Slide 1</dc:title>
</cp:coreProperties>
</file>